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A62-A76B-4DA1-9FFE-5BE4190F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3AD-F8EB-4A6B-820F-F968B3D6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D00-64EB-49FF-92B6-881F746E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C7D-D83D-4DD2-B63E-30F4B7D5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859-F26B-4596-8276-C11A47E8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2B5-89A1-4470-AD2A-0798F547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35D-0084-4B02-A7AE-8B41E40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E8B-074A-4FEB-AC9B-D070BCB5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977-7C93-4A77-BC3F-75E9A3F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1FF-ADAF-45A8-8764-A497148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350-CFBE-4ABA-9541-A19125E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C11-AAA4-4879-8EBA-3BEBF61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BE50-5EE4-475E-97AC-9CE671D92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43000" y="1219320"/>
            <a:ext cx="71629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219320" y="15238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371600" y="19810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6248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od id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762120" y="1447920"/>
            <a:ext cx="73911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762120" y="990720"/>
            <a:ext cx="7924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real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nt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90720"/>
            <a:ext cx="69343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t’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19320" y="1066680"/>
            <a:ext cx="67816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2 way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1143000"/>
            <a:ext cx="74678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have H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d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ul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2193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have stuf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d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1440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esn’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est (speak to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rry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can’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rry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’m bus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go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t’s go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99072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’d like to go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com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600200" y="1828800"/>
            <a:ext cx="5715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can g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he par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you want to g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he par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1219320"/>
            <a:ext cx="68580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I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p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1219320"/>
            <a:ext cx="67057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066680" y="14479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4479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6553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am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a pic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14400" y="914400"/>
            <a:ext cx="74674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are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 to the zo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90720" y="1219320"/>
            <a:ext cx="73911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ndow sho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are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tch a g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62120" y="990720"/>
            <a:ext cx="7772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are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 a pl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2193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l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143000" y="106668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ang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219320" y="114300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’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06668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ce q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va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vas f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week-e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52280" y="3808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rrang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e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estion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 vas faire quo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066680" y="27432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i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t-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the caf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i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838080" y="1676520"/>
            <a:ext cx="7772400" cy="38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who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609480" y="114300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ie thea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14300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Pierre’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fron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v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066680" y="838080"/>
            <a:ext cx="7467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ie the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838080" y="838080"/>
            <a:ext cx="754380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the Tuile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way sto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no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68580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r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99072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o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dnigh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rter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752480" y="2590920"/>
            <a:ext cx="5410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3h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838080" y="137160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ndred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h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Mar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1440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s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219320" y="16002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m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gh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w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to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tur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1295280"/>
            <a:ext cx="64771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es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uc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wi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029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le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rcRect l="0" t="28778" r="0" b="14151"/>
          <a:stretch/>
        </p:blipFill>
        <p:spPr>
          <a:xfrm>
            <a:off x="1295280" y="1219320"/>
            <a:ext cx="6753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7" name="Picture 4" descr="img422"/>
          <p:cNvPicPr/>
          <p:nvPr/>
        </p:nvPicPr>
        <p:blipFill>
          <a:blip r:embed="rId1"/>
          <a:stretch/>
        </p:blipFill>
        <p:spPr>
          <a:xfrm>
            <a:off x="1828800" y="914400"/>
            <a:ext cx="5486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3" descr="img424"/>
          <p:cNvPicPr/>
          <p:nvPr/>
        </p:nvPicPr>
        <p:blipFill>
          <a:blip r:embed="rId1"/>
          <a:stretch/>
        </p:blipFill>
        <p:spPr>
          <a:xfrm>
            <a:off x="1676520" y="990720"/>
            <a:ext cx="54864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hors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ri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1523880" y="770040"/>
            <a:ext cx="5639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s verb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"ER"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ulo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vit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ut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/tu/i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/vous/il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'étudie/tu étudies/il étud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 étudions/ v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z/ils étudi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3000" y="1371600"/>
            <a:ext cx="67057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3-08T17:17:08Z</dcterms:modified>
  <cp:revision>48</cp:revision>
  <dc:subject/>
  <dc:title>No Slide Title</dc:title>
</cp:coreProperties>
</file>